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8A4-F7C8-4936-A88C-E0BF9EB8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2CB-A3FC-4ACB-927C-5C118C2A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76F-03D8-4627-AC69-5DE46F9C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8EB-3B9D-47D3-B7F3-0AF4CE6F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F3F-9205-4262-B411-D4C6A14C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E4D-E400-4AED-9A1A-587D42F7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B83-90AD-4519-A3A5-6C5EC73C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D0B-DEEC-4B2C-AD19-28340CFF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CBF-9A0C-4032-8E6A-250CB48D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563-F3A0-465A-B385-E99238B3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85E-E4F0-4A1D-BE5F-16C5203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B55-9F31-438F-AEEC-44E7BED4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459-C94F-4F04-AB1D-1AA58122F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Calcu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differ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533520" y="3962520"/>
          <a:ext cx="74851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7485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your own words, define a local maximum and a local minim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ynomial Functions and Their Graph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:  The learner willdescribe the important features of the graph of a polynomial func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ocab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al maxi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al mini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ing interv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reasing interv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d behavi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directions ask for max and min you will be using the y-value to state the max or min and the x-value for where the max or min oc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directions ask for increasing and decreasing you will be using the x-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 each function and approximate any local maxima and minima to the nearest ten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2209680" y="1752480"/>
          <a:ext cx="39308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3930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3124080" y="685800"/>
          <a:ext cx="290844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685800"/>
                    <a:ext cx="2908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 each function.  Find any local maxima or minima to the nearest tenth.  Find the intervals over which the function is increasing and decrea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2971800" y="2666880"/>
          <a:ext cx="2489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666880"/>
                    <a:ext cx="2489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2971800" y="609480"/>
          <a:ext cx="266688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609480"/>
                    <a:ext cx="26668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end behavior of each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2590920" y="1371600"/>
          <a:ext cx="356220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3562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3"/>
          <p:cNvGraphicFramePr/>
          <p:nvPr/>
        </p:nvGraphicFramePr>
        <p:xfrm>
          <a:off x="2819520" y="3581280"/>
          <a:ext cx="345420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81280"/>
                    <a:ext cx="34542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eet 7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3:18:58Z</dcterms:created>
  <dc:creator>setupuser</dc:creator>
  <dc:description/>
  <dc:language>en-US</dc:language>
  <cp:lastModifiedBy>setupuser</cp:lastModifiedBy>
  <dcterms:modified xsi:type="dcterms:W3CDTF">2014-02-24T13:22:34Z</dcterms:modified>
  <cp:revision>15</cp:revision>
  <dc:subject/>
  <dc:title>Warm-up</dc:title>
</cp:coreProperties>
</file>